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41B-D0FE-4782-82F6-08518DDC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B1F-284C-4649-993F-84631C5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8B7DB-6096-4A65-AEAD-9B6C3301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02DD8-136E-47FD-8818-699D9BB1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9D5AD-1B9A-4155-BEB2-6FDF0BC1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5D3C0-82B0-40BA-9CBA-36FA1312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B9FC6-0CF3-4D7B-8224-6217B20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A8C11-8346-4D63-983A-32F16B1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EFD8D-25BC-43D3-B9DE-FD38DFC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973FA-3E7B-4557-AAF0-6EBEAE60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FFC27-910D-40A3-A911-8E04C876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1AB69-D1A1-469F-942B-ED3B3299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FD1-B301-4B20-A0B2-3C5D4291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76C32-2794-4A74-901D-F914830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A3D0D-57EA-4EF3-B58D-0DCDC4ED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CABF3-9530-49F8-8622-EAC6B52A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ED70E-4DD8-47F5-83F5-015C71C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D39CB-9AAA-42C1-8D49-D8568813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10E40-6D68-4C6F-9CEC-232E38CE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B208E-8C0B-4116-8724-6063D9C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51A93-DDBE-4EF5-A56A-C3AA53A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EDA5-EE59-4797-B887-0500F202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B64FB-E201-4519-8708-9313B329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5B2-0CFC-42A3-8544-EFA43E4A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FDAF7-0E39-4724-8888-CE7152B8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BD898-1B12-40DA-8B3F-E23A50F9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D88DF-4BC7-439D-9088-46203085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E0D90-146B-4CF4-98B8-F4F6E15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44035-A2FB-48BC-85FB-BA8D5C67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6CDE5-3402-4586-B568-E29CF8DF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60BE2-71FC-4051-B7C5-89F063D9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12BDE-3C89-4089-8E69-CAE7AF79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658AC-BDEF-484E-89A1-00BBBE2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41F34-49CD-41B0-8BC8-1BD32BD2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7E16-3A20-42E6-85CD-C22FBA54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F9BAF-EDA6-4338-B212-37C6EC7C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8CE23-4B87-48D5-BC91-C470ACA7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F19C8-4714-47E3-8557-7F66567F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BED2E-5868-4BC8-A197-73C098B1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C5163-1C30-42ED-B9B0-E92C83B7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ED563-AE0F-4911-B35D-DBE7423B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05D96-C61C-422C-96E0-51F137B8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BDD4D-B9BD-42FE-A871-FFC553C6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95FB0-E780-4C3E-B7B3-D912A5AA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3B2E9-C6E8-4BF6-B03B-74607A11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1A2C-82FF-4E2E-9B0F-06E45200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F5B8F-5214-4931-8F10-BAA8721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B584B-DE12-4FC9-BA8B-3BDBB992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9753D-0D64-4616-B51C-B8B65CDD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10094-6006-47D9-8F7F-D0576D2D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F53B9-679F-4EF2-ABE1-5268FBAC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0B24-A861-4C02-9DBE-4C3E147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D564-B9BF-49B9-BA1E-073A5326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DE20-2615-40F7-9C17-403F3EE8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098F-123E-4474-A627-DB75A50E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4273-F1E6-482D-A361-DADB37BA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0FC-4CA5-4E3E-8A4C-692F2FD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747A-EC08-4F4F-B8D5-910E4C3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82D1-A48C-4C15-BE57-E985CC4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E59A-29A3-4C89-BCE1-A1B8308D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BB0D-AFBB-4532-B464-6272AF03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20D8-5CD0-46EB-AC88-273CDCC4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4800-3D3C-44CF-B8BC-14BF3222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378A-F21C-48AB-95FB-614018C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55D2-0300-49D2-862D-B36B26F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4512-15FB-4BBF-A531-687025A6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C605-5355-43E3-9CC9-2B02472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E90-4E3C-461E-B98D-F004280C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6C01-58D9-4A91-BACE-86A4B7F6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153A5-5229-47D1-9793-7829C4A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431D-F2A2-4F8A-AEEB-7814FDB2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FE3F-051A-4538-8998-95A3D17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6E7E-C7B5-4E25-BDB9-02659FBF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D39C-940C-4BF1-8ED4-51BFD803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012C-2DBD-4594-9208-9E84C40F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C019-99E0-4718-8432-55B522D3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7908-1229-46CA-A9A8-9CCFC461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C17B-8C4B-4C38-AAC9-EEB02F1E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C24-90CA-4B06-A231-1AFBE41F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28C1-78CD-493D-90D1-D7457455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C041-CE41-4D75-894B-53C917A0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2FBE-E34B-497D-8622-18513A97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EF97-A269-421A-ACA7-0964BF9E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631C-82AA-4E29-9CC9-9B77F34C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6DC10-0550-47B4-A94E-98E4FF0F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838F-C594-421B-882B-719F8ED9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F683-AF6E-4725-8364-E3223A5F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EF3B-1208-4C25-A6E1-54F4D7F4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D2B8-20E1-4D53-AAD6-05FF2B1C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04A-676D-4C15-B135-FC60DC97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A5E2-D7BD-418B-A274-A39B9E6C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188F-487F-4FD1-BA61-2A93F7F6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EEB4-A7B5-4D28-8865-5D0E5D94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1F608-6DC7-49E9-8B1D-F210421F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92B37-C5C8-447C-9D2B-84F99085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DA678-6FDF-4239-A090-CBC1995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0575E-D987-4BB2-ADE1-A767324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43A8-C129-4404-AF1F-72871FB6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75928-7B09-466D-9C71-5926906B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5DE0-022F-41AF-8255-6DDF6A3A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D15-3FF6-4297-B643-AC3AA83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4AA4-0060-4377-8CC9-CA893205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F1BB-5DC6-45E6-8883-A6A89BC3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E719E-4A2C-4B4C-9D8C-70AAD9A6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3D706-2360-4B4E-B1DF-1ACDAAD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8934-C280-499B-AE6F-ED443A19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1C29-C899-430B-A7B4-C1FC6EA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4E5C-0A2E-45CC-9571-5717E50B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ABE37-C6C1-42C0-9C74-765674B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890AC-7193-43D2-9436-AEDF001A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CF82-B697-4FB7-9798-EE03A13D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9FB-BF23-44D1-9A9F-FB07D7D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23999-83DF-4486-B97B-9AF95E7B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38817-6FD5-4468-B5D4-96C7C62F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2A80-4902-4A1D-B7ED-C1BBBA2D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5EC29-0702-4186-B480-C7FD8209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72A30-C6A0-433E-A8B5-2E0DA378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9AE95-7DC6-4A72-A62E-E825B64B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A946-D1C0-4762-B771-808E2CAB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41531-086B-4356-B5F2-8E34A272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07923-83F2-4F53-A90A-84F372A5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1278E-7524-43A0-AE40-443045E9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560-F9A6-49CD-8F58-C2E1003E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71DF8-98BE-434C-8BA7-6573896F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8B21-5EA3-428C-AB2F-16F51A3D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802BA-EB21-4256-A6D5-CCB28D4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9FA2F-540E-408F-BA10-BD440010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F1FE0-CB4D-4549-9CF9-7434F353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CD2B4-DA57-48FB-B417-3A416256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528E8-E363-4417-A343-BD7B4C0A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56A1-C088-4F0E-B65A-DDE4495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70D9C-F914-4085-8440-E57BDE06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282E5-2FB6-400F-A887-BA52B439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038-3149-476B-B949-CFF81D06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75002-BA89-410C-A1C0-DC2F47F4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CBBF-2E69-4C3A-BBBE-EFA1202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FBA4D-660E-41F5-9EED-DEA1F8F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0D2B-173A-4DFA-B1CB-D479DE1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9D25B-6B09-4916-9E4E-4E86059F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5940B-07B9-48F5-9647-B4637994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FF41F-1A93-45C0-9645-7163956F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BACCE-3769-4A00-8E16-A2EB6249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2CAB8-727F-4863-B4F7-B4BFF3C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535BD-FE08-409B-929A-48DA37B0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4938-1B79-41A3-88C1-D8E3D1BB14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24FE-2483-4E54-801A-78969A9C20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142D-C018-4A17-A338-C96127BF5C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BB39-B7BF-422D-B568-59D455A48E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2F38-9C6A-4F97-9ABB-B730992933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2066-76BD-4D3F-8D8A-CD94903A3F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AD51-A117-4D06-A319-3B0DA6987C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0C42-F03C-49F9-B5AD-4FE6C8A32C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BFC-1315-4667-A145-4B17A20207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BE38-FDC9-42FD-8B52-DAA7F000F5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481-5D4E-4484-AC22-1369D265DC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35EB-849B-425A-A40E-724BA78C84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1 Sýť Slovom živo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ýť Slovom života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milostivo ráč sa sklon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stránok Knihy kní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ýcha tvoj Du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otvoriť aj dne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zrak i sl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ieb Slova požehn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ím obživ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aždý skromný da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rozmnož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blížnych nás uč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každý vďa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ťa vele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chlebom sýt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sť chceme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vojej lásky da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á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pomôž vytr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siahnuť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ť s tebou večne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8:11:03Z</dcterms:modified>
  <cp:revision>21</cp:revision>
  <dc:subject/>
  <dc:title>Je veľký náš Pán, on slávy je Kráľ Nech do všetkých strán  spev vrúcnych znie chvál.</dc:title>
</cp:coreProperties>
</file>